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CF47-984E-4221-B50A-0409AE953E4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5474-BEA1-479A-AADE-43D4F564C32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AFC-DA92-4ACD-98F6-78152A81FEE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D259-BBE6-4819-BD3A-AF3D0F5FB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0867-37A4-4413-9A27-C0C64751886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F43D-CA20-4687-A37B-B0B3646649F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EB9-5349-42F5-931E-0C69AB5F5D0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0535-9D35-4058-83A1-6579F3CC9B8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8F9-836E-462A-A441-6CC0F2887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9A36-3F51-4477-8EFD-63AB5C7DAF9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BDB1-754F-4355-A20B-8123857810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0012-A2A1-40D4-81AE-D6DE11A5172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us on economy, controls and due processes. The MOF may perform tight control on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8699-DEDB-4DEB-AB0E-68B9CDA36D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2CE79E9-63A1-4A6C-BDB7-C92BE71E0734}" type="slidenum">
              <a:rPr b="0" lang="fr-FR" sz="1200" spc="-1" strike="noStrike">
                <a:solidFill>
                  <a:srgbClr val="0f5494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6D0A-E766-48F0-BD65-FA5233DBB24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CFA4-CE26-4551-A58A-1CB749A5505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226-8D0E-42EC-9CE2-24D2ACDB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590-A078-4EDE-A5BB-DE278ADA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852-BBD1-415B-B154-98EB040C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47D-EE7F-46E5-9F7F-27E03433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E8F6-72B3-4E57-BE88-CEE04B76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4C78-A458-4F87-9C5F-1DBC9E62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AA98-2E53-453C-868F-B0F2A17E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10CE-D42D-4040-BA99-EFD0F31F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A587-D729-46A0-936A-26FB0FE5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61A2-9807-4238-B7C4-9E553CB9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439B-2C94-4B6F-A132-41C8E213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778-3ECD-444D-9FAB-48CC52F0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1B22-8863-483D-9AFC-1A0C0AC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7FB3-0E00-4744-B952-6D1CB523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9B5F-0F60-471D-BC65-040A27AB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30BB-4540-4DD0-BF77-6EA9CC8E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8A28-03E1-4B7C-A1E2-B66567D1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FE4E6-3A12-4264-BCD5-E43F8CF9A6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8B900E-647C-477F-9DF0-ABE077FC7C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E1212-3499-4AFA-81BC-DF2129701D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DD2612-3CE2-428E-8060-21FB7FEA81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29C02C-1E57-498D-A2D0-75E9C25C9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DF0-0C04-41AF-8960-ECE4F03E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E52EC-308E-48C1-BB38-0A42C6AEFF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7D769-C850-4AF5-8E67-000847E46E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AAECA-9727-489B-8B1A-DD9A6914B1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432577-321E-4531-9D28-66C3874D36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7ED42-9191-4C92-B88B-3E56BDD57C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CD7B5-976B-49D2-8037-6054FC7956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5006E-D859-4043-A0A6-A90D311C0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EDF-5748-420C-86E1-1300AFEE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0A8-900F-47B5-92DB-D22BBE60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62B-BE6B-484D-82DA-513A05B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B17-A486-4514-AA6C-4632627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DC7-8259-485F-A0EF-869A23E1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FA1-3084-497E-A7B6-E40D0FAC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921C-5BA0-4C07-8F45-D3B0176C14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9A21-292E-4486-BC01-D7A43476B4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471-EF32-404C-9389-440902F249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71320" y="442872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Module 1.2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ourquoi réformer un système de GFP? Pourquoi établir un séquençage</a:t>
            </a: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57120" y="221472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d624"/>
                </a:solidFill>
                <a:latin typeface="Verdana"/>
              </a:rPr>
              <a:t>Problématique des réformes budgétaires Unité 1. Présentation de la problématique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réform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un séquenç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s bases (ou fonctions essentielles) de la GF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’approche par platefor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mment traiter les réformes trop sophistiquées pour le contexte du pay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Flèche droite 3"/>
          <p:cNvSpPr/>
          <p:nvPr/>
        </p:nvSpPr>
        <p:spPr>
          <a:xfrm>
            <a:off x="539640" y="4005360"/>
            <a:ext cx="7920000" cy="1008000"/>
          </a:xfrm>
          <a:prstGeom prst="rightArrow">
            <a:avLst>
              <a:gd name="adj1" fmla="val 50000"/>
              <a:gd name="adj2" fmla="val 49980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357200"/>
            <a:ext cx="77864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f5494"/>
                </a:solidFill>
                <a:latin typeface="Verdana"/>
              </a:rPr>
              <a:t>Allen Schick: les bases d'abord!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3080" y="1989000"/>
            <a:ext cx="83185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  <a:ea typeface="Arial"/>
              </a:rPr>
              <a:t>En 1998, Schick réagit contre les tentatives d'exportation du modèle néo-zélandais vers les pays en développement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  <a:ea typeface="Arial"/>
              </a:rPr>
              <a:t>Il recommande  d'assainir les bases en premier lieu plutôt que de "jouer à saute-mouton"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Les bases ont aussi été appelées récemment “core fonctions” –fonctions essentielles</a:t>
            </a:r>
            <a:endParaRPr b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5"/>
          <p:cNvSpPr/>
          <p:nvPr/>
        </p:nvSpPr>
        <p:spPr>
          <a:xfrm>
            <a:off x="35712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BC2F-E253-47C1-A441-54A69FFAE27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47560" y="5854680"/>
            <a:ext cx="820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f5494"/>
                </a:solidFill>
                <a:latin typeface="Verdana"/>
              </a:rPr>
              <a:t>Schick, Allen. 1998. “Why Most Developing Countries Should Not Try New. Zealand Reforms.” The World Bank Research Observer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7786800" y="128520"/>
            <a:ext cx="1168200" cy="1282680"/>
          </a:xfrm>
          <a:prstGeom prst="rect">
            <a:avLst/>
          </a:prstGeom>
          <a:ln w="0">
            <a:noFill/>
          </a:ln>
        </p:spPr>
      </p:pic>
      <p:sp>
        <p:nvSpPr>
          <p:cNvPr id="170" name="Line 6"/>
          <p:cNvSpPr/>
          <p:nvPr/>
        </p:nvSpPr>
        <p:spPr>
          <a:xfrm>
            <a:off x="7929720" y="291960"/>
            <a:ext cx="831600" cy="9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7929720" y="127080"/>
            <a:ext cx="1025280" cy="11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2" name="Picture 12" descr=""/>
          <p:cNvPicPr/>
          <p:nvPr/>
        </p:nvPicPr>
        <p:blipFill>
          <a:blip r:embed="rId2"/>
          <a:stretch/>
        </p:blipFill>
        <p:spPr>
          <a:xfrm>
            <a:off x="1258920" y="0"/>
            <a:ext cx="720720" cy="857160"/>
          </a:xfrm>
          <a:prstGeom prst="rect">
            <a:avLst/>
          </a:prstGeom>
          <a:ln w="0">
            <a:noFill/>
          </a:ln>
        </p:spPr>
      </p:pic>
      <p:sp>
        <p:nvSpPr>
          <p:cNvPr id="173" name="Line 13"/>
          <p:cNvSpPr/>
          <p:nvPr/>
        </p:nvSpPr>
        <p:spPr>
          <a:xfrm>
            <a:off x="1692360" y="333360"/>
            <a:ext cx="6264360" cy="1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39640" y="1330200"/>
            <a:ext cx="828036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763640" y="6494400"/>
            <a:ext cx="7572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Lydian"/>
              </a:rPr>
              <a:t>Banque mondiale. </a:t>
            </a:r>
            <a:r>
              <a:rPr b="0" lang="fr-FR" sz="1600" spc="-1" strike="noStrike">
                <a:solidFill>
                  <a:srgbClr val="0f5494"/>
                </a:solidFill>
                <a:latin typeface="Lydian"/>
              </a:rPr>
              <a:t>	</a:t>
            </a:r>
            <a:r>
              <a:rPr b="0" lang="fr-FR" sz="1600" spc="-1" strike="noStrike">
                <a:solidFill>
                  <a:srgbClr val="0f5494"/>
                </a:solidFill>
                <a:latin typeface="Lydian"/>
              </a:rPr>
              <a:t>	</a:t>
            </a:r>
            <a:r>
              <a:rPr b="0" lang="fr-FR" sz="1600" spc="-1" strike="noStrike">
                <a:solidFill>
                  <a:srgbClr val="0f5494"/>
                </a:solidFill>
                <a:latin typeface="Lydian"/>
              </a:rPr>
              <a:t>Manuel de gestion des dépenses publiqu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Orientations pour le développement des contrôles inter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2920" y="2214720"/>
            <a:ext cx="83296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ans le même esprit A. Shick distingue trois étapes dans le développement des régimes de contrôle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-34308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0" lang="fr-FR" sz="1900" spc="-1" strike="noStrike" baseline="30000">
                <a:solidFill>
                  <a:srgbClr val="0f5494"/>
                </a:solidFill>
                <a:latin typeface="Verdana"/>
              </a:rPr>
              <a:t>ère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 étape: Contrôles de tierce partie (ministère des finances)  externes au ministères dépensier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-34308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2</a:t>
            </a:r>
            <a:r>
              <a:rPr b="0" lang="fr-FR" sz="1900" spc="-1" strike="noStrike" baseline="30000">
                <a:solidFill>
                  <a:srgbClr val="0f5494"/>
                </a:solidFill>
                <a:latin typeface="Verdana"/>
              </a:rPr>
              <a:t>ème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 étape: Contrôle internes aux ministères dépensier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-34308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3</a:t>
            </a:r>
            <a:r>
              <a:rPr b="0" lang="fr-FR" sz="1900" spc="-1" strike="noStrike" baseline="30000">
                <a:solidFill>
                  <a:srgbClr val="0f5494"/>
                </a:solidFill>
                <a:latin typeface="Verdana"/>
              </a:rPr>
              <a:t>ème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 étape: Responsabilisation des gestionnair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l estime nécessaire de suivre ces étapes pour développer une culture budgétaire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57480" indent="-34308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Mais les contrôles de tierce partie (1ère étape) doivent être justes et réalistes pour constituer une base de départ solid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Espace réservé du numéro de diapositive 5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ED1-3DD0-427F-9C93-2ED59EE28C4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7200" y="114264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Quels sont les objectifs et dimensions assignés aux base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071720" y="2571840"/>
            <a:ext cx="2523960" cy="59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Rendre compte aux citoyens, être à l'écout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09840" y="3171960"/>
            <a:ext cx="283392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Rôle du Parle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dans les sociétés démocratiqu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928880" y="5286240"/>
            <a:ext cx="2571840" cy="10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Procédures en bonne et du forme (probité, régularité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286240" y="2357280"/>
            <a:ext cx="25243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Discipline budgétaire global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4240" y="3929040"/>
            <a:ext cx="2571840" cy="12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Allocation des ressources et politique fiscale conforme aux objectif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500720" y="4357800"/>
            <a:ext cx="292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Fourniture de services publics &amp; administration fiscale efficient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38440" cy="1200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7429680" y="5311800"/>
            <a:ext cx="130644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fr-FR" sz="9600" spc="-1" strike="noStrike">
                <a:solidFill>
                  <a:srgbClr val="0f5494"/>
                </a:solidFill>
                <a:latin typeface="Lydian"/>
              </a:rPr>
              <a:t>?</a:t>
            </a:r>
            <a:endParaRPr b="0" lang="en-US" sz="9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ent définir les base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8920" y="1844640"/>
            <a:ext cx="882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ppelées aussi “core fonctions” –fonctions essentiel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ions liées à la hiérarchie entre les objectifs de la GFP, indiquée dans le module 1.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éfinitions proposées 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Ensemble de fonctions nécessaires pour assurer l’opérationnalité des autres fonctions de manière durable sans absorber un niveau excessif de ressourc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Fonctions visant à assurer la discipline budgétaire (probité, régularité –</a:t>
            </a:r>
            <a:r>
              <a:rPr b="0" i="1" lang="fr-FR" sz="1900" spc="-1" strike="noStrike">
                <a:solidFill>
                  <a:srgbClr val="0f5494"/>
                </a:solidFill>
                <a:latin typeface="Verdana"/>
              </a:rPr>
              <a:t>financial compliance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). 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En tenant compte au moins dans une deuxième étape, de la dimension « crédibilité du budget » au sens du PEFA (c’est-à-dire budget exécuté selon les prévisions initiales)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1900" spc="-1" strike="noStrike">
                <a:solidFill>
                  <a:srgbClr val="0f5494"/>
                </a:solidFill>
                <a:latin typeface="Verdana"/>
              </a:rPr>
              <a:t>la crédibilité du budget nécessite un certain degré de discipline budgétaire globale (respect des équilibres macro-économiques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2" marL="914400"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Exemples de fonctions basiqu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lassification administrative et par nature économique (compatible avec GFS/SFP) des dépens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egré d’exhaustivité du budget satisfaisa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mmatriculation des contribuab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uivi financier du budget régulier base caisse et engage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gistre d’actifs physiques pour les actifs « à risque » (ex. véhicules, ordinateur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omptes de fin d’année/loi de règlement de l’année n-1 transmis au Parlement au plus tard avec le projet de budget de l’année n+1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"Les bases d'abord« : Faut-il nuancer l'approche 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999800"/>
            <a:ext cx="822960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buClr>
                <a:srgbClr val="0f54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Arial"/>
                <a:ea typeface="Arial"/>
              </a:rPr>
              <a:t>On part rarement de ‘zéro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Arial"/>
                <a:ea typeface="Arial"/>
              </a:rPr>
              <a:t>Des réformes "avancées" peuvent être déjà en place, même si tous les éléments de base ne sont pas tous en pla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Arial"/>
                <a:ea typeface="Arial"/>
              </a:rPr>
              <a:t>Les systèmes peuvent comprendre des éléments de robustesse et d'autres de faiblesse. Faut-il attendre d'avoir 100% des "bases"?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buClr>
                <a:srgbClr val="0f54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Arial"/>
                <a:ea typeface="Arial"/>
              </a:rPr>
              <a:t>Les réformes doivent être attractives dès le départ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buClr>
                <a:srgbClr val="0f54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Arial"/>
                <a:ea typeface="Arial"/>
              </a:rPr>
              <a:t>Les contrôles centraux ne sont pas la panacée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Arial"/>
                <a:ea typeface="Arial"/>
              </a:rPr>
              <a:t>Risques d'hypercentralisation et de corruption des contrôleurs. Schick souligne d’ailleurs que les contrôles centraux doivent être loyau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Arial"/>
                <a:ea typeface="Arial"/>
              </a:rPr>
              <a:t>Les ministères sectoriels doivent être impliqués dans les réformes. On ne peut se contenter de les contrôle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Espace réservé du numéro de diapositive 5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C84F-FE9C-4BC1-AB1F-3F80908F74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9280" y="2204640"/>
            <a:ext cx="8434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réform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un séquenç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s bases (ou fonctions essentielles) de la GF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’approche par platefor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mment traiter les réformes trop sophistiquées pour le contexte du pay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èche droite 3"/>
          <p:cNvSpPr/>
          <p:nvPr/>
        </p:nvSpPr>
        <p:spPr>
          <a:xfrm>
            <a:off x="539640" y="4581360"/>
            <a:ext cx="4896000" cy="1008360"/>
          </a:xfrm>
          <a:prstGeom prst="rightArrow">
            <a:avLst>
              <a:gd name="adj1" fmla="val 50000"/>
              <a:gd name="adj2" fmla="val 49993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L'approche par plateform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5640" y="206028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a plateforme: Un ensemble cohérent de mesures permettant de réaliser une ensemble d'améliorations réalistes dans la gestion des finances publiqu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a stratégie de réforme comprend un séquence de platefor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haque plateforme permet de jeter les bases pour la plateforme suivant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57120" y="6248520"/>
            <a:ext cx="82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Cf. Peter Brooke. Rapport pour PEFA et DFID briefing paper juillet 2005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5"/>
          <p:cNvSpPr/>
          <p:nvPr/>
        </p:nvSpPr>
        <p:spPr>
          <a:xfrm>
            <a:off x="8143920" y="6272280"/>
            <a:ext cx="58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14C7-1BD8-490D-83E9-6FF929A9E238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50480" y="2421000"/>
            <a:ext cx="85359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dule 1.1. Objectifs de la GFP et approches budgétai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Module 1.2. Pourquoi réformer les systèmes de GFP? Pourquoi établir un séquençage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dule 1.3. Le point de départ : évaluer les systèmes de GF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dule 1.4. Conditions pour le succès des réform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63640" y="1341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Jour 1: Approches pour une réforme de la GFP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0E29-9F8C-45EA-ABE5-51BCADC76E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57120" y="412920"/>
            <a:ext cx="8642520" cy="6445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357120" y="3571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Verdana"/>
              </a:rPr>
              <a:t>Exempl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Espace réservé du numéro de diapositive 5"/>
          <p:cNvSpPr/>
          <p:nvPr/>
        </p:nvSpPr>
        <p:spPr>
          <a:xfrm>
            <a:off x="7010280" y="6394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EEF8-8E6C-4AE7-A37F-E6BEA4BE95E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Les limites de l'approche par plateform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13840" y="2142720"/>
            <a:ext cx="8929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  <a:ea typeface="Arial"/>
              </a:rPr>
              <a:t>A été mise en œuvre au Cambodge, au Kenya, …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  <a:ea typeface="Arial"/>
              </a:rPr>
              <a:t>Encore trop tôt pour juger (?), mais l'approche est quelquefois reste complexe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  <a:ea typeface="Arial"/>
              </a:rPr>
              <a:t>D’après Alle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07080" indent="-3290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  <a:ea typeface="Arial"/>
              </a:rPr>
              <a:t>Accent insuffisant sur les contraintes institutionnelles, sous-estimation des résistanc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07080" indent="-3290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  <a:ea typeface="Arial"/>
              </a:rPr>
              <a:t>Surcharge d'activités. Au Cambodge: la plateforme 1 comprenait 27 activités, 250 actions spécifiqu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07080" indent="-3290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  <a:ea typeface="Arial"/>
              </a:rPr>
              <a:t>Horizon temporel irréaliste, etablisseme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nt des priorités médiocr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207080" indent="-3290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Micro-manag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485F-D41F-42A1-8662-2F76FDBB5392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L’approche par plateformes : Eviter le schématisme, rester simp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  <a:ea typeface="Arial"/>
              </a:rPr>
              <a:t>Une suite de plateformes comportera inévitablement des chevauchements 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  <a:ea typeface="Arial"/>
              </a:rPr>
              <a:t>Il faut tenir compte de l'existant qui peut être plus "avancé"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  <a:ea typeface="Arial"/>
              </a:rPr>
              <a:t>Il faut consolider les "plateformes" précédentes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  <a:ea typeface="Arial"/>
              </a:rPr>
              <a:t>La première "plateforme" (les bases+?) peut être définie, peut être aussi la deuxième, mais au-delà ??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982-135E-4716-92F6-2960DB676CE9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39280" y="2095200"/>
            <a:ext cx="8434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réform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un séquenç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s bases (ou fonctions essentielles) de la GF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’approche par plateform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Comment traiter les réformes trop sophistiquées pour le contexte du pay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53800" indent="-25380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5760" y="123948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Flèche droite 3"/>
          <p:cNvSpPr/>
          <p:nvPr/>
        </p:nvSpPr>
        <p:spPr>
          <a:xfrm>
            <a:off x="615960" y="5229360"/>
            <a:ext cx="8281800" cy="1512720"/>
          </a:xfrm>
          <a:prstGeom prst="rightArrow">
            <a:avLst>
              <a:gd name="adj1" fmla="val 50000"/>
              <a:gd name="adj2" fmla="val 49983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5056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Comme discuté dans le module 1.4, beaucoup de pays en développement mettent en place des réformes « sophistiquées » alors que les bases (ou fonctions essentielles) ne sont que très partiellement en plac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Ex. CDMT, budget-programme, comptabilité d’exercice (</a:t>
            </a:r>
            <a:r>
              <a:rPr b="0" i="1" lang="fr-FR" sz="2000" spc="-1" strike="noStrike">
                <a:solidFill>
                  <a:srgbClr val="0f5494"/>
                </a:solidFill>
                <a:latin typeface="Verdana"/>
              </a:rPr>
              <a:t>accrual accounting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)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Mettre en place ce type de réforme va à l’encontre de l’ordre logique défini dans ce module, mais les écarter peut être difficile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essions des bailleurs pour poursuivre les réformes sophistiqué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Volonté interne de démontrer que le pays se modernise et est capable de mener à bien des réformes complexes, etc</a:t>
            </a: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Le dilemn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170028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a priorité au renforcement des bases doit être respectée, mais si les réformes « sophistiquées » ne peuvent être remises en cause, il conviendra de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veiller à inclure dans le programme de réforme les mesures basiques et les pré-conditions nécessaires pour rendre efficace ces mesures de réforme « sophistiquées » 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Cf. les priorités définies par domaine de la GFP dans les modules du jo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Exemple: introduire la comptabilité matière </a:t>
            </a:r>
            <a:r>
              <a:rPr b="0" i="1" lang="fr-FR" sz="1800" spc="-1" strike="noStrike">
                <a:solidFill>
                  <a:srgbClr val="0f5494"/>
                </a:solidFill>
                <a:latin typeface="Verdana"/>
              </a:rPr>
              <a:t>(assets registers)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i le pays  veut développer la comptabilité d’exercice </a:t>
            </a:r>
            <a:r>
              <a:rPr b="0" i="1" lang="fr-FR" sz="1800" spc="-1" strike="noStrike">
                <a:solidFill>
                  <a:srgbClr val="0f5494"/>
                </a:solidFill>
                <a:latin typeface="Verdana"/>
              </a:rPr>
              <a:t>(accrual accoun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Redimensionner certaines mesures de réforme « sophistiquées » en en limitant les ambitions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Ex., un budget-programme peut dans une première étape être limité à un document pou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f5494"/>
                </a:solidFill>
                <a:latin typeface="Verdana"/>
              </a:rPr>
              <a:t>Comment traiter de telles situations?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essage cl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Une réforme budgétaire comprend en général une série d’étap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ors de la première phase de la réforme la plus grande attention doit être portées aux bases d’un système budgétaire c’est-à-dire au fonctions assurant la discipline budgétai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1332000" y="1447920"/>
            <a:ext cx="1584360" cy="72072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ight Arrow 4"/>
          <p:cNvSpPr/>
          <p:nvPr/>
        </p:nvSpPr>
        <p:spPr>
          <a:xfrm rot="10800000">
            <a:off x="6084360" y="1447920"/>
            <a:ext cx="1584360" cy="72072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306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Après une brève présentation des objectifs d’une réforme, ce module présente les notions de « bases » (ou fonctions essentielles) d’un système budgétaire et examine les questions liées au « séquençage » (détermination des étapes) d’une réforme budgétair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Module 1.2. Pourquoi réformer les systèmes de GFP? Pourquoi établir un séquençage? </a:t>
            </a:r>
            <a:br>
              <a:rPr sz="2400"/>
            </a:br>
            <a:br>
              <a:rPr sz="2400"/>
            </a:br>
            <a:r>
              <a:rPr b="1" i="1" lang="fr-FR" sz="2400" spc="-1" strike="noStrike">
                <a:solidFill>
                  <a:srgbClr val="0f5494"/>
                </a:solidFill>
                <a:latin typeface="Verdana"/>
              </a:rPr>
              <a:t>Objectifs du module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95280" y="22712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575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Verdana"/>
              </a:rPr>
              <a:t>Pourquoi réformer?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Pourquoi un séquençage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Les bases (ou fonctions essentielles) de la GFP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L’approche par plateformes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Comment traiter les réformes trop sophistiquées pour le contexte du pays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5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èche droite 3"/>
          <p:cNvSpPr/>
          <p:nvPr/>
        </p:nvSpPr>
        <p:spPr>
          <a:xfrm>
            <a:off x="684360" y="1989000"/>
            <a:ext cx="3382920" cy="1008360"/>
          </a:xfrm>
          <a:prstGeom prst="rightArrow">
            <a:avLst>
              <a:gd name="adj1" fmla="val 50000"/>
              <a:gd name="adj2" fmla="val 49966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301760"/>
            <a:ext cx="8715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Pourquoi réformer un système budgétaire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4760" y="2422440"/>
            <a:ext cx="85726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Réformer un système de gestion des finances publiques vise à améliorer la performance de ce système,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C’est-à-dire à le renforcer selon les objectifs de la GFP à chaque étape du cycle de la GFP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Améliorer la performance d’un système de GFP nécessite en général la combinaison de trois approches : (i) renforcer; (ii) améliorer; (iii) réformer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L’importance relative accordée à chacune de ces approches dépend du contexte du pays  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8572680" y="6215040"/>
            <a:ext cx="38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184D-53E9-4729-A5D7-C0ECEE86F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72D1-063A-41D4-B390-2654690C97D6}" type="slidenum">
              <a:rPr b="0" lang="fr-FR" sz="1000" spc="-1" strike="noStrike">
                <a:solidFill>
                  <a:srgbClr val="0f5494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800" y="1988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Combiner :  </a:t>
            </a:r>
            <a:br>
              <a:rPr sz="2800"/>
            </a:b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(i) renforcer</a:t>
            </a:r>
            <a:br>
              <a:rPr sz="2800"/>
            </a:b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(ii) améliorer</a:t>
            </a:r>
            <a:br>
              <a:rPr sz="2800"/>
            </a:b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(iii) réformer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716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enforcer l'existan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orm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ntroduction d'outil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mélior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méliorer les manuels, systèmes et procéd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orm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Réform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hanger lois, règlements, procéd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hanger les dispositions organisationnel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Mettre en place les structures de gestion de la réforme  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14240" y="3571920"/>
            <a:ext cx="28083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6836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quoi réform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Pourquoi un séquenç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s bases (ou fonctions essentielles) de la GF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’approche par platefor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mment traiter les réformes trop sophistiquées pour le contexte du pay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Module 1.2. Points examin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Flèche droite 3"/>
          <p:cNvSpPr/>
          <p:nvPr/>
        </p:nvSpPr>
        <p:spPr>
          <a:xfrm>
            <a:off x="755640" y="2781360"/>
            <a:ext cx="4248000" cy="1008000"/>
          </a:xfrm>
          <a:prstGeom prst="rightArrow">
            <a:avLst>
              <a:gd name="adj1" fmla="val 50000"/>
              <a:gd name="adj2" fmla="val 50006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43280" y="85680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Pourquoi un séquençage des réformes? (1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2560" y="1928520"/>
            <a:ext cx="90010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'expérience des pays développés montre qu'une  réforme budgétaire demande du temp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3" marL="1487880" indent="-212400">
              <a:lnSpc>
                <a:spcPct val="100000"/>
              </a:lnSpc>
              <a:spcBef>
                <a:spcPts val="55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Plus de 5 ans pour une reforme comptable au Royaume U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100000"/>
              </a:lnSpc>
              <a:spcBef>
                <a:spcPts val="55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En F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éparation de la LOLF vers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Vote de la LOLF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Mise en place de la LOLF: Budget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'expérience montre que l’introduction prématurée d’instruments sophistiqués dans les PVD et les pays en transition n'est pas concluante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43280" y="85680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Pourquoi un séquençage des réformes? (2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928520"/>
            <a:ext cx="90010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Un système budgétaire est influencé par des facteurs culturels et politiques, les infléchir demande du temps.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a réforme est un processus continu et permanent. Un processus d'apprentissage par l'expérience est indispensable (Il n'existe pas de recette magique !)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Corriger les erreu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S'adapter aux ch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ogresser pas à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5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B1DA-BD0D-402F-8EA0-E89FD16B9CF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Florence Brosset-Heckel</cp:lastModifiedBy>
  <dcterms:modified xsi:type="dcterms:W3CDTF">2016-06-09T07:49:07Z</dcterms:modified>
  <cp:revision>125</cp:revision>
  <dc:subject/>
  <dc:title>Slide 1</dc:title>
</cp:coreProperties>
</file>